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3.wmf" ContentType="image/x-wmf"/>
  <Override PartName="/ppt/media/image3.wmf" ContentType="image/x-wmf"/>
  <Override PartName="/ppt/media/coin.wav" ContentType="audio/x-wav"/>
  <Override PartName="/ppt/media/arrow.wav" ContentType="audio/x-wav"/>
  <Override PartName="/ppt/media/image1.jpeg" ContentType="image/jpeg"/>
  <Override PartName="/ppt/media/image15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cashreg.wav" ContentType="audio/x-wav"/>
  <Override PartName="/ppt/media/hammer.wav" ContentType="audio/x-wav"/>
  <Override PartName="/ppt/media/image6.wmf" ContentType="image/x-wmf"/>
  <Override PartName="/ppt/media/click.wav" ContentType="audio/x-wav"/>
  <Override PartName="/ppt/media/whoosh.wav" ContentType="audio/x-wav"/>
  <Override PartName="/ppt/media/breeze.wav" ContentType="audio/x-wav"/>
  <Override PartName="/ppt/media/camera.wav" ContentType="audio/x-wav"/>
  <Override PartName="/ppt/media/image2.png" ContentType="image/png"/>
  <Override PartName="/ppt/media/image10.wmf" ContentType="image/x-wmf"/>
  <Override PartName="/ppt/media/suction.wav" ContentType="audio/x-wav"/>
  <Override PartName="/ppt/media/image4.gif" ContentType="image/gif"/>
  <Override PartName="/ppt/media/drumroll.wav" ContentType="audio/x-wav"/>
  <Override PartName="/ppt/media/type.wav" ContentType="audio/x-wav"/>
  <Override PartName="/ppt/media/wind.wav" ContentType="audio/x-wav"/>
  <Override PartName="/ppt/media/image9.wmf" ContentType="image/x-wmf"/>
  <Override PartName="/ppt/media/explode.wav" ContentType="audio/x-wav"/>
  <Override PartName="/ppt/media/image11.wmf" ContentType="image/x-wmf"/>
  <Override PartName="/ppt/media/voltag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49B1-56B0-4E34-AD77-2928B063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C572-B6C3-42D3-B1E2-38771BC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8E84-4F20-4EDF-BA7D-F7423ACE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F457-F18A-41C3-989B-E619DC6A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824-1FD4-434C-A413-2AAB33C6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8401-D976-41DE-B043-9D1036E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06D-B8A4-4AB7-AB6D-A21AFCE9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1664-8C7A-457B-B50A-E587A56C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7B90-A169-4EC3-948A-6E0284C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36AA-EBC9-4C76-9071-96362E9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BFE-D128-4D23-AB83-E7886AC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AF81-E2A7-423F-AF82-085F991C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8B8-15E9-4859-99FD-5736A49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ABB-8D37-409C-BF13-0E1FD8B3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B2FD-BE3D-4929-978F-911F9DF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536A-2E6A-41E4-9170-A2CE1592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246-FE20-49E5-88EE-25ACA08A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0F9F-DA41-4AA2-998D-72EECE1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3156-C210-4A93-A6D7-E4F6C68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FD7D-4FFD-434A-9038-AF9E3F98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8B2A-89F6-4F71-B24D-9D2DC8D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D882-ECC5-4276-919E-05134ED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7AC6-C760-43F3-8037-2F6C69C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07FD-ACA0-492D-9310-B3497DA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E56-2287-4FAB-8C97-5F0E1CCB3A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F0B-325A-4AE3-80E3-0B73E8B0F5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arrow.wav" TargetMode="External"/><Relationship Id="rId3" Type="http://schemas.microsoft.com/office/2007/relationships/media" Target="file:///tmp/home/.config/libreoffice/4/user/gallery/arrow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drumroll.wav" TargetMode="External"/><Relationship Id="rId6" Type="http://schemas.microsoft.com/office/2007/relationships/media" Target="file:///tmp/home/.config/libreoffice/4/user/gallery/drumroll.wav" TargetMode="External"/><Relationship Id="rId7" Type="http://schemas.openxmlformats.org/officeDocument/2006/relationships/image" Target="../media/image2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Bremen Town Musicians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ocabulary and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solving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00360" cy="411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explod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7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urviva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living on or of surviv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5436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serab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, very unhapp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67240" cy="37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5" name="voltag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8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trugg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hard to do something that is difficu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751200" cy="36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depend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 on or trust a person or 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familiar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known or close to you from repeated cont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38156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insis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demand or taking a 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0512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xcit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nst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sici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obb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excitemen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very strong, happy feelings about something that you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7525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l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ilding in which grain is ground into flour or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31338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onst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-believe people or animals that are sc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243240" cy="415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usician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who sings, plays, or writes mus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9880" cy="293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lick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73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2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robb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ho rob or st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92948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oin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0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rviv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se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rugg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amilia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si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partnership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or more people become partners and join together to share some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3213000"/>
            <a:ext cx="56390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5" name="type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18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15:49Z</dcterms:created>
  <dc:creator> </dc:creator>
  <dc:description/>
  <dc:language>en-US</dc:language>
  <cp:lastModifiedBy> </cp:lastModifiedBy>
  <dcterms:modified xsi:type="dcterms:W3CDTF">2007-10-22T23:01:47Z</dcterms:modified>
  <cp:revision>2</cp:revision>
  <dc:subject/>
  <dc:title>The Bremen Town Musicians</dc:title>
</cp:coreProperties>
</file>